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F13-ECE8-4DC3-9BAC-80B1BAD3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28F-D163-4CA4-8B5F-D8BD19BD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2008E-265E-4F38-A7D9-A8F7AE92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4A8DA-47A9-4993-8295-D4DCFE3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DFE38-19E5-494B-9165-88645438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D4B26-FEA0-4D7D-9EB0-EE58E2C9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30B57-F422-4B63-96F7-DAFF9918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F6524-B3F6-428B-BD4D-2AC54133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18C2E-F722-4530-AA81-72ECD440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F3FD2-16AC-437A-BACF-46EEC534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25783-D16C-4A2D-802A-7E5185AE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A0295-F8A1-4228-A29A-42497691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A2B-24EB-42BB-BAB4-6C11BD32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22559-7032-45C4-98A3-2715EC36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04D6E-C68A-466E-8854-92439077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365E8-9F85-4A78-AC8F-3BED8941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50B81-6CDD-4A92-8503-7293C88B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15EA9-F4B1-4BF8-88A8-1FB34FE5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26363-D82B-4129-8D1E-FA38AE3D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91A64-0F1E-4BFF-AFFC-FC6D71B9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C03D4-5654-46F6-AC4A-21A8232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14600-0E56-4B56-AE85-60A51A9E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157AF-ED9A-485F-B059-4564DB30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28D-1857-4734-9747-3672F9C7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B6554-03A8-4013-888A-C9DE220F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B0138-0F06-4535-B865-7DD0227D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17DF9-22D8-4D36-B56C-0425C40F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4DB57-D76C-4739-9B5D-787BD428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D82D7-7512-4064-AD0D-EFD50E67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F98C3-F490-48B7-96AE-AB8D777D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7B104-C84E-4B85-9A4B-641EC5BA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601D6-748E-4EC0-9C61-EAA5166A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AA0CC-AA4D-4926-8FB2-2A3761F5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67CB2-16BC-4E6D-9BCA-BEEB95B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E2C1-8448-44AF-A21A-C342FC1E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26058-B69D-4C7C-A6F4-73DE5B73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D140C-4C28-4211-97A0-FB4A2A07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6EAB6-09E8-4A3F-8890-AED39738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C970E-5D64-4632-8360-C2D200B2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2088B-2510-4607-9C42-5DCD76BB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7D767-0705-4DFC-B4E0-C4B528AA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7CE75-0C99-4A71-A667-8637BC02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D6B01-A5CA-443D-A3D8-4678C51E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42FB7-98FB-4B4F-AA40-0967363B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154D8-6C2F-430B-A211-FD4064D8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0A62-29D9-4122-A4FF-A9C230E0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A00DE-3292-4DE1-8CCE-BEDD9D27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796FD-0F59-4D3D-ACD3-3A84C7B9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A7B58-AF9A-4D12-BD84-B208C3D7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622AD-4DE8-4696-A874-772F3A49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96DC9-43A2-42B4-BEB9-33B7E5A1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C6BA-D1C3-494E-938A-1682A82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9CE3-EE28-4A3B-B30A-718E9C2A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3C2C-C803-4585-9025-9EA29E34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4082-0888-469D-A905-E567CDCE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8DEC-0582-48DF-8DA7-7499C78A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D9C-737E-4797-A65B-DC8371F8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0845-6DBA-45F8-9F7F-54D4277C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0181-85AB-4B9B-91DB-6A95494D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7CA0-20AA-4C41-8DEC-7FEB230F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FABB-3865-4BEE-A1FE-56A9B43E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531D-1447-4300-9FF0-AADE14E0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2A65-D3E3-469C-9C7F-663D0DBF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0D11-409F-4D9D-959E-61AA667E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EE38-B650-49D1-A948-75078694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67386-A5B5-455C-8568-DE0BBB9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52ED-B15D-48DB-916E-F3159E3A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128-D853-4326-B49A-67775BD3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0281-7DF7-4816-934A-B7D727CF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4913-6D6B-4B79-9FB8-4BE7583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5CCE-88CF-4F00-A5D2-27EB92EA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9C14-6F49-492B-BF05-4870B244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A47C2-21FB-4387-B6E6-A20D134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2393-70A4-46AA-841F-F9D67C2C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CEFC-1366-49D0-80EB-F7557AD1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ADD6D-B7FD-4011-827E-67AFA95B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229FA-6BC1-43D2-9B0D-36496064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FFAC-1243-4C08-86B1-E86494E4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78F-7422-40A3-8AAA-02B4A180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813A-22E0-4176-AA84-318D28EB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5213-4875-426D-BE04-2600A219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6E46C-74A1-4098-8729-B5BE0D5F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D265-BED2-4E4F-8FC3-69FAE69C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3822-8963-47E0-878F-21CD4301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B33B3-1068-4B9A-95B1-C1479BDD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9387-05BF-4669-8AD5-4AB62F36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5ACC-8FB1-4D51-A4DD-4AC47038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72D4-8A9C-4179-BD28-7FD3FE13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A3B0F-698F-4373-9BB9-C2D86ABB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B8A-A403-4632-97F2-FD4EF77B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7A7A-A87F-4239-B397-D72FCE09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71DB8-55D9-4984-8DCC-960D55BF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4EFB9-81DB-4A36-9B3F-F4513CE5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1F4E4-D4C7-432C-9B5D-36D32701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69672-1087-42F6-9DC8-79D88127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32A96-81FD-4F8D-9EF3-0D772C68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D5DC6-719B-421E-9BE3-E0CFF411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D727-C9D2-4766-A406-1A463496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F212C-8C8F-4E1B-ACB6-FB951E90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B24E-75D1-4910-B67D-8246D82C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2B8-045D-42D6-90E9-96DA6DE4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65828-CD10-4717-96A8-7450405D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DE5B2-9CCA-4F4A-9D0D-ECFEE1EB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DDD7F-C2A7-40A5-A8B3-0B831B56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57F95-4EA6-49D7-965E-016C7176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4B0DD-8389-4556-BE27-CF71F809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DE212-A364-42D2-A1F5-404CDCFB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B7BBF-712F-47E1-9E8B-9A5C6BB0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96465-5632-4F88-AF96-06447D02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1FFD7-1B09-4D47-9689-2D26F78E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6B1AA-A166-40D1-BF65-B4B93C5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E31-31C6-40A0-9C71-83904162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B9228-039A-4C47-A09C-52C52904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B8227-8A72-43E3-B886-3F61E3B1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5F7C-7980-48FA-A0D9-C9123B1D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547C0-BE97-4B1E-B091-FD89FE3C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0B703-19AF-4462-AC05-BCE8485A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F40AB-13A4-4994-9C74-BB2033DF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B293C-1C1D-48B0-8745-DF5F6A75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DBA8E-DBEE-4EDF-B2A4-19F52D12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D421D-A957-4F53-BBE9-1AE3E0D7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F3EB5-F7BD-44AE-9941-E1152470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CEB-8780-4491-94E2-C0B2452E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E157E-9C21-490E-B8BB-71233A44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1B4EF-A6C4-499A-9642-2261811E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B4480-25F1-4E48-9905-05CE6163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D486A-61EA-4CCA-9AAD-C7F138BF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33332-F8D6-4E7D-B2E3-9DD396E8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2E4B6-449B-412A-8A4C-08F861E7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88F6F-5535-4E33-BA0E-51939636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80834-D2CA-40EC-B70A-1C82266D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6CBE1-EEFF-4D44-970E-FA5AC208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50145-3DB1-4E2F-A2E2-8FA24AE1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34B-5DD2-4E45-AFEF-3F75995F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6875A-248D-48F8-BEE4-853FA2CF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CB4F0-1BDC-4E45-916E-5C1D9D0B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B58FC-BB2D-454F-9651-584375E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5953F-DAE9-4305-A97D-800E676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9A239-9A2C-48A1-8FB0-30785D5F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9D8CF-9EFC-471A-BED0-00ACF6D9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79901-5BA7-4EEC-A198-859DB06D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15A01-5525-480B-A91F-6088FA28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56A83-4B9E-4544-85AB-3D4232D8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66BE2-0C16-422A-B71D-7BA13FC8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CA67-7453-4A5A-9B84-64A74C7CE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E2B0-8BD9-4633-AED1-C5FBCAA137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E6C0-E83A-45F2-9916-21C5E853AA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62A2-8084-404E-A8E2-B7AE22918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F04D-0342-4E01-8C17-3477692E66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D7EC-DA07-4E67-955E-70D935C32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5A3B-7833-4692-B9F9-97604BCFEE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5C35-A6A3-4369-ADF2-5ACEA45EC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2527-4AA8-4E0D-85B9-DA0DB9908B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9897-1265-49F8-AB53-A763EF7EE6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CF29-AD10-4167-9C84-A04C82A1D8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DA9D-0125-407B-894D-A01D28AAD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mat.com/" TargetMode="External"/><Relationship Id="rId2" Type="http://schemas.openxmlformats.org/officeDocument/2006/relationships/hyperlink" Target="http://www.flowof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HEMATIC BOOK REPOR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MMA SHAPLAN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CS CLASS 6X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1-18-200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Keeping Corn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fli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7" descr=""/>
          <p:cNvPicPr/>
          <p:nvPr/>
        </p:nvPicPr>
        <p:blipFill>
          <a:blip r:embed="rId1"/>
          <a:stretch/>
        </p:blipFill>
        <p:spPr>
          <a:xfrm>
            <a:off x="291960" y="2871720"/>
            <a:ext cx="8523360" cy="31687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8"/>
          <p:cNvSpPr/>
          <p:nvPr/>
        </p:nvSpPr>
        <p:spPr>
          <a:xfrm>
            <a:off x="609480" y="160020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e conflict is between Leela wants for herself and what society expects of her:  “A widow’s life is a living death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fli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Content Placeholder 3" descr=""/>
          <p:cNvPicPr/>
          <p:nvPr/>
        </p:nvPicPr>
        <p:blipFill>
          <a:blip r:embed="rId1"/>
          <a:stretch/>
        </p:blipFill>
        <p:spPr>
          <a:xfrm>
            <a:off x="291960" y="2567160"/>
            <a:ext cx="8523360" cy="35524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533520" y="1600200"/>
            <a:ext cx="8076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is also a conflict between India and Britain, which rules India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Freedom can overcome oppress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You should be willing to find a new wa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ela was oppressed by tradition and beliefs about widow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 widow’s arms are forever quiet.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Indian people were oppressed by Brita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oth Leela and the Indian people had to decide which path to take: the old way or the new wa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Being a widow means keeping corner for the rest of your life.”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hen society paves the road, you do not have to follow it—Emma Shaplan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m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utho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Name: Kashmira Sheth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Biography: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orn in Bhavangar, India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oved to U.S. to attend Iowa State University at 17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Earned microbiology degre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ecided to become author after inspiring letter from uncl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Currently lives in Madison, Wisconsin with her husband and two daughter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ther Books: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Georgia"/>
              </a:rPr>
              <a:t>Blue Jasmin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Georgia"/>
              </a:rPr>
              <a:t>Koyal Dark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Georgia"/>
              </a:rPr>
              <a:t>Mango Swee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Languages: Hindi, Gujarati, English and Sanskri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avorite Genre: Historical fi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wards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13960" indent="-226080">
              <a:lnSpc>
                <a:spcPct val="80000"/>
              </a:lnSpc>
              <a:spcBef>
                <a:spcPts val="42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2006-07 Iowa Children’s Choice Award Nominee; Oklahoma’s 2007 Children’s Sequoyah Award Masterlist; Paul Zoindel First Novel Award; 2005 Oppenheim Toy Portfolio Platinum Award; ALA Great Middle School Reads; CCBC Choice 2005 (source www.community.livejounal.com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eeping Corner’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ligious and Other Belief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storical Events and Figur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in Charact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o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flic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m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uth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etting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 year is 1918, nearly 100 before 2009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We are in Indi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ritish rule over India as a colon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Hindu relig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aste system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n a small village called Jamle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o cars or pavement, but carriages driven by livestock on dirt road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any fairs, events and dinne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n a Brahman Household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irt floo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hed with a Bulloc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urtyar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xtended family liv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Content Placeholder 4" descr="3009275110_b48a82de27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16480" cy="21333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home.jpg"/>
          <p:cNvPicPr/>
          <p:nvPr/>
        </p:nvPicPr>
        <p:blipFill>
          <a:blip r:embed="rId2"/>
          <a:stretch/>
        </p:blipFill>
        <p:spPr>
          <a:xfrm>
            <a:off x="4572000" y="3886200"/>
            <a:ext cx="43434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ligious and Other Belief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456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induism: polytheism, Rama is key go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aste System: several social classes of traditional Hindu socie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rahman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Hindu belonging to the highest cast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ubject to strict rul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Example:  Widows must “keep corner”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– stay confined to your house for a yea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idowhoo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Keep Corn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Mourn the loss of your husban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have hea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hunned by all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4" descr="Caste%20System%20Diagram%2006_05.jpg"/>
          <p:cNvPicPr/>
          <p:nvPr/>
        </p:nvPicPr>
        <p:blipFill>
          <a:blip r:embed="rId1"/>
          <a:stretch/>
        </p:blipFill>
        <p:spPr>
          <a:xfrm>
            <a:off x="5562720" y="25909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1368000" y="3200040"/>
            <a:ext cx="6480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RITISH RUL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- AND 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GANDH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Historical Events and Figur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British Rule</a:t>
            </a:r>
            <a:br>
              <a:rPr sz="2200"/>
            </a:br>
            <a:br>
              <a:rPr sz="2200"/>
            </a:br>
            <a:r>
              <a:rPr b="1" lang="en-US" sz="1000" spc="-1" strike="noStrike">
                <a:solidFill>
                  <a:srgbClr val="ffffff"/>
                </a:solidFill>
                <a:latin typeface="Georgia"/>
              </a:rPr>
              <a:t>www.flowofhistory.com</a:t>
            </a:r>
            <a:endParaRPr b="0" lang="en-US" sz="1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Diagram 16" descr=""/>
          <p:cNvPicPr/>
          <p:nvPr/>
        </p:nvPicPr>
        <p:blipFill>
          <a:blip r:embed="rId1"/>
          <a:stretch/>
        </p:blipFill>
        <p:spPr>
          <a:xfrm>
            <a:off x="3017880" y="530280"/>
            <a:ext cx="5918040" cy="37432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Placeholder 7" descr="british rule.jpg"/>
          <p:cNvPicPr/>
          <p:nvPr/>
        </p:nvPicPr>
        <p:blipFill>
          <a:blip r:embed="rId2"/>
          <a:stretch/>
        </p:blipFill>
        <p:spPr>
          <a:xfrm>
            <a:off x="3048120" y="4419720"/>
            <a:ext cx="5867280" cy="1904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7" descr="IWM_IndianLancerHaifa1918.jpg"/>
          <p:cNvPicPr/>
          <p:nvPr/>
        </p:nvPicPr>
        <p:blipFill>
          <a:blip r:embed="rId3"/>
          <a:stretch/>
        </p:blipFill>
        <p:spPr>
          <a:xfrm>
            <a:off x="228600" y="2590920"/>
            <a:ext cx="2590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236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Gandhi</a:t>
            </a:r>
            <a:br>
              <a:rPr sz="2200"/>
            </a:br>
            <a:r>
              <a:rPr b="0" lang="en-US" sz="12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camat.com</a:t>
            </a:r>
            <a:br>
              <a:rPr sz="1200"/>
            </a:br>
            <a:r>
              <a:rPr b="0" lang="en-US" sz="12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www.flowof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history.com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www.indianchild.com</a:t>
            </a:r>
            <a:endParaRPr b="0" lang="en-US" sz="1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124080" y="685800"/>
            <a:ext cx="56390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ow you act is more important than what you achiev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et Satygarah against British ru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77880" indent="-231840">
              <a:lnSpc>
                <a:spcPct val="9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atygarah  = peaceful resistance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3" marL="1203480" indent="-231840">
              <a:lnSpc>
                <a:spcPct val="90000"/>
              </a:lnSpc>
              <a:spcBef>
                <a:spcPts val="524"/>
              </a:spcBef>
              <a:buClr>
                <a:srgbClr val="8c7b7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Saty = truth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203480" indent="-231840">
              <a:lnSpc>
                <a:spcPct val="90000"/>
              </a:lnSpc>
              <a:spcBef>
                <a:spcPts val="524"/>
              </a:spcBef>
              <a:buClr>
                <a:srgbClr val="8c7b7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agrah = insistence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illing to go to jail for Satygara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77880" indent="-231840">
              <a:lnSpc>
                <a:spcPct val="9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Went to jail many times 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677880" indent="-231840">
              <a:lnSpc>
                <a:spcPct val="9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pent 7 years in jail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andhi became voice of Indian National Congress in 192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rced Britain to give India independence in 1947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>
              <a:lnSpc>
                <a:spcPct val="90000"/>
              </a:lnSpc>
              <a:spcBef>
                <a:spcPts val="550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Killed in 1947 by one of his followers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Content Placeholder 15" descr="gandhi02.jpg"/>
          <p:cNvPicPr/>
          <p:nvPr/>
        </p:nvPicPr>
        <p:blipFill>
          <a:blip r:embed="rId3"/>
          <a:stretch/>
        </p:blipFill>
        <p:spPr>
          <a:xfrm>
            <a:off x="304920" y="2209680"/>
            <a:ext cx="243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in Charac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Leela is 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13-year-old Indian girl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of the Brahman caste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he lives with he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a (mother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apuji (father)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Kaka (paternal uncle)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Kaki (uncle’s wife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he wa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engaged at two,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married at nine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lanning at 13 to move into the home of her husban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Content Placeholder 6" descr="sheth_keeping.jpg"/>
          <p:cNvPicPr/>
          <p:nvPr/>
        </p:nvPicPr>
        <p:blipFill>
          <a:blip r:embed="rId1"/>
          <a:stretch/>
        </p:blipFill>
        <p:spPr>
          <a:xfrm>
            <a:off x="5313240" y="1752480"/>
            <a:ext cx="30132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lo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4" descr=""/>
          <p:cNvPicPr/>
          <p:nvPr/>
        </p:nvPicPr>
        <p:blipFill>
          <a:blip r:embed="rId1"/>
          <a:stretch/>
        </p:blipFill>
        <p:spPr>
          <a:xfrm>
            <a:off x="225360" y="1511280"/>
            <a:ext cx="86630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8:55:36Z</dcterms:created>
  <dc:creator>AP</dc:creator>
  <dc:description/>
  <dc:language>en-US</dc:language>
  <cp:lastModifiedBy>AP</cp:lastModifiedBy>
  <dcterms:modified xsi:type="dcterms:W3CDTF">2009-11-18T02:21:46Z</dcterms:modified>
  <cp:revision>50</cp:revision>
  <dc:subject/>
  <dc:title>Keeping Corner</dc:title>
</cp:coreProperties>
</file>